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28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26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71A-7CC7-4FE1-B59F-1A8B45B9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255-717C-480B-A4CE-B2E47682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869-9EEC-4A46-BA0B-614D9EF2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6D4A-FE6D-4CA0-834C-7FD9FE65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087F-910D-4C45-9C64-2E7AA924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F93-32B7-40D6-AC9B-125D8630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F49D-7197-4C82-9CC2-18800B1E0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A876-B5AC-4E9F-B725-6DC382ED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3C2-299A-4F95-8014-8F60248C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3960-8837-408E-B4A1-E3D470D4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377-0707-4E9E-A583-188C4E8F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325D-00D9-472E-8157-DA12623B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F060-E43E-47E0-B7C8-A59B5A3FF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Image:Innozenz3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Meeting_of_doctors_at_the_university_of_Paris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sacred-destinations.com/france/images/paris/notre-dame-cathedral/rose-window-cc-farl.jpg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acred-destinations.com/france/images/paris/notre-dame-cathedral/par1_169-med.jpg" TargetMode="External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istorymedren.about.com/library/atlas/natmapce1180.htm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Image:Friedrich-barbarossa-und-soehne-welfenchronik_1-1000x1540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igh and Late Middle 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Joan of Arc, Witch and Heretic: Powerful Women Had to Fear the Accusation of Witchcraft"/>
          <p:cNvPicPr/>
          <p:nvPr/>
        </p:nvPicPr>
        <p:blipFill>
          <a:blip r:embed="rId1"/>
          <a:stretch/>
        </p:blipFill>
        <p:spPr>
          <a:xfrm>
            <a:off x="2743200" y="1600200"/>
            <a:ext cx="3809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urch Power at its He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98 Innocent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s authority over all earthly ru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9 launches a holy war against French heretics; Crusade; tens of thousands slaught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s Papal Sates and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76920" y="1828800"/>
            <a:ext cx="3733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us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lliant civilizations in India, Asia, Africa and the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the Musl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of wars begun in 10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ians battle Muslims for control of the Holy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ts for 20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48320" y="1752480"/>
            <a:ext cx="4267080" cy="41148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all to Crus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juk Turks (Muslim) overrun Middle 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yzantine Emperor asks Pope Urban II for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Council of Clermont Urban makes th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ban hopes to increase his power and heal the Schis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>
            <a:lum contrast="6000"/>
          </a:blip>
          <a:srcRect l="0" t="0" r="0" b="37526"/>
          <a:stretch/>
        </p:blipFill>
        <p:spPr>
          <a:xfrm>
            <a:off x="4724280" y="1752480"/>
            <a:ext cx="41911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acr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he First Crusade is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sad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overrun causing more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87 Jerusalem falls to Salad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91 Muslims overrun the Crusader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medieval picture of Jerusalem"/>
          <p:cNvPicPr/>
          <p:nvPr/>
        </p:nvPicPr>
        <p:blipFill>
          <a:blip r:embed="rId1"/>
          <a:stretch/>
        </p:blipFill>
        <p:spPr>
          <a:xfrm>
            <a:off x="4800600" y="1676520"/>
            <a:ext cx="41148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 Impact of the Crus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gious hat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opean economies expand; trade routes open to move luxury items from the Byzantine Emp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etians build huge fl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of money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648320" y="1752480"/>
            <a:ext cx="4267080" cy="426744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n Monarchs and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s power of the Monar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taxes to support Crus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al power reaches its he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ith the Muslim world opened the world to Europeans through trade and explo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495680" y="1219320"/>
            <a:ext cx="3886200" cy="281916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5181480" y="4114800"/>
            <a:ext cx="3733920" cy="2590920"/>
          </a:xfrm>
          <a:prstGeom prst="rect">
            <a:avLst/>
          </a:prstGeom>
          <a:ln w="9360">
            <a:solidFill>
              <a:srgbClr val="00517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onqu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mpaign to drive the Muslims from the Iberian Penins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85 Christians retake Tol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00 Christians control peninsula except for Gre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69 Ferdinand and Isabella ma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724280" y="3733920"/>
            <a:ext cx="1200240" cy="1199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1714320" cy="1457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00800" y="1828800"/>
            <a:ext cx="2514600" cy="3352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77120" y="5181480"/>
            <a:ext cx="21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ws Being Expelled from 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economic and political conditions improve there is a need for educate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s sees schools and cathedrals to train cl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couldn’t attend universities but could go to con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A medieval manuscript showing a meeting of doctors at the University of Par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57800" y="1600200"/>
            <a:ext cx="3124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k and Roman knowledge lost 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lim scholars had translate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s these reach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crisis of faith versus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Aqui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181480" y="167652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eval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; epics and the Divine Com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nterbury T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 and 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manesque to Goth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ne; glass; Notre Dame Cathed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Notre Dame rose window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24280" y="1676520"/>
            <a:ext cx="419112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648320" y="533412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orth Rose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narchs, Nobles, and the Chur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-1300 the balance of power shif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archs centralized power; expand their domains at expense of the Chu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ed by townspeople who wanted peace for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An abbot preaching, 14th century"/>
          <p:cNvPicPr/>
          <p:nvPr/>
        </p:nvPicPr>
        <p:blipFill>
          <a:blip r:embed="rId1"/>
          <a:stretch/>
        </p:blipFill>
        <p:spPr>
          <a:xfrm>
            <a:off x="5181480" y="1676520"/>
            <a:ext cx="32767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re Dame Cathed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Notre-Dame Cathedral, Par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1295280"/>
            <a:ext cx="3276720" cy="5105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657600" y="4114800"/>
            <a:ext cx="2819520" cy="22287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Interior of Notre-Dame Cathedral, Paris"/>
          <p:cNvPicPr/>
          <p:nvPr/>
        </p:nvPicPr>
        <p:blipFill>
          <a:blip r:embed="rId4"/>
          <a:stretch/>
        </p:blipFill>
        <p:spPr>
          <a:xfrm>
            <a:off x="3657600" y="1219320"/>
            <a:ext cx="3333600" cy="2495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7238880" y="1143000"/>
            <a:ext cx="1638360" cy="2181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Cathedral of Chartres"/>
          <p:cNvPicPr/>
          <p:nvPr/>
        </p:nvPicPr>
        <p:blipFill>
          <a:blip r:embed="rId6"/>
          <a:stretch/>
        </p:blipFill>
        <p:spPr>
          <a:xfrm>
            <a:off x="6553080" y="3809880"/>
            <a:ext cx="238140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lack De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47 trading ships dock at Messina; bring Black De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348 reached Spain and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bonic Plague; spreads to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c set off by Mongol invasions in the 1200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6803" t="15997" r="5201" b="18001"/>
          <a:stretch/>
        </p:blipFill>
        <p:spPr>
          <a:xfrm>
            <a:off x="4038480" y="1371600"/>
            <a:ext cx="2514600" cy="1828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6095880" y="2971800"/>
            <a:ext cx="2895840" cy="189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14" name="" descr="Black rat"/>
          <p:cNvPicPr/>
          <p:nvPr/>
        </p:nvPicPr>
        <p:blipFill>
          <a:blip r:embed="rId3"/>
          <a:stretch/>
        </p:blipFill>
        <p:spPr>
          <a:xfrm>
            <a:off x="4267080" y="4724280"/>
            <a:ext cx="3200400" cy="19209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the Plag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 life breaks down; terror, bodies, people flee 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ws are blamed and persecu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y suffers; inf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rch splits; The Great Sch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Illustration of the Black Death from the Toggenburg Bible (1411)"/>
          <p:cNvPicPr/>
          <p:nvPr/>
        </p:nvPicPr>
        <p:blipFill>
          <a:blip r:embed="rId1"/>
          <a:stretch/>
        </p:blipFill>
        <p:spPr>
          <a:xfrm>
            <a:off x="4952880" y="1600200"/>
            <a:ext cx="3733920" cy="3067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029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lustration of the Black Death from the Toggenburg Bible (14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ndred Years W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37-1453 France and England engage in a series of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ish win early vi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an of Arc fights for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 creates sense of nationalism in France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monar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land sees rise of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Joan of Arc, Witch and Heretic: Powerful Women Had to Fear the Accusation of Witchcraft"/>
          <p:cNvPicPr/>
          <p:nvPr/>
        </p:nvPicPr>
        <p:blipFill>
          <a:blip r:embed="rId1"/>
          <a:stretch/>
        </p:blipFill>
        <p:spPr>
          <a:xfrm>
            <a:off x="4906800" y="1600200"/>
            <a:ext cx="352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lliam of Norman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iam conquers England; King (10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efs and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aw and trial by 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154 Henry II has serious conflict with church over legal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70 Thomas Becket, archbishop is assass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>
            <a:lum contrast="6000"/>
          </a:blip>
          <a:srcRect l="3128" t="3857" r="2087" b="3767"/>
          <a:stretch/>
        </p:blipFill>
        <p:spPr>
          <a:xfrm>
            <a:off x="4648320" y="1981080"/>
            <a:ext cx="4038480" cy="3200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648320" y="52578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ttle of Hastings, 10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ving Systems of Gover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angers the Church and his own no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15 the nobles force him to sign the Magna C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nobles rights; due process given to all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g subject to the l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magnacarta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5257800" y="1600200"/>
            <a:ext cx="3352680" cy="3886200"/>
          </a:xfrm>
          <a:prstGeom prst="rect">
            <a:avLst/>
          </a:prstGeom>
          <a:ln w="9360">
            <a:solidFill>
              <a:srgbClr val="006699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5257800" y="55627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 has a council of advisors; can’t tax arbit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lia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00s the Great Council becomes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becomes England’s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L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 of Comm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 of the Purse; the right to approve any new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1295280"/>
            <a:ext cx="3666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archs in F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179 Phillip II becomes King of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ty, taxes, expansion make him most powerful ruler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 grandson Louis IV clashes with the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ism; Avig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s 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Western Schism"/>
          <p:cNvPicPr/>
          <p:nvPr/>
        </p:nvPicPr>
        <p:blipFill>
          <a:blip r:embed="rId1"/>
          <a:stretch/>
        </p:blipFill>
        <p:spPr>
          <a:xfrm>
            <a:off x="5105520" y="1828800"/>
            <a:ext cx="33526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oly Rom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harlemagne’s death empire broke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36 Otto I becomes King of Germ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 ties to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62 crowned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control of central and easter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1752480"/>
            <a:ext cx="4124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e Versus Empe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54 Henry IV King of Germany; Holy Roman Empe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gory VII P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ht over lay investi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ommunication; rebellion; ex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22 The Concordat of W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Pope Gregory VII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65656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ruggle for It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0-1200 German emperors try to control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derick I tries to take Ita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’s defeated but clashes with several p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he’s in Italy his nobles get more independ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Barbarossa, middle, flanked by his two children, King Henry VI (left) and Duke Frederick VI (right). From the Welf Chronicl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447920"/>
            <a:ext cx="34290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3:05:31Z</dcterms:created>
  <dc:creator>MPS</dc:creator>
  <dc:description/>
  <dc:language>en-US</dc:language>
  <cp:lastModifiedBy>MPS</cp:lastModifiedBy>
  <dcterms:modified xsi:type="dcterms:W3CDTF">2008-07-16T14:43:54Z</dcterms:modified>
  <cp:revision>11</cp:revision>
  <dc:subject/>
  <dc:title>The High and Late Middle Ages</dc:title>
</cp:coreProperties>
</file>